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045D-605A-4A03-9EA3-8CAABBF42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4AC6-BD61-4F03-BD22-D097B035E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8740-8D22-41BC-9257-6DADA7C87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7B92-FEEA-4FFD-AC7E-AE8370A3A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EC6A-6097-46FB-926C-B22C53024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72047-B930-430F-A196-26E082ED9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3F5AA-74C4-42CB-86A6-52626880F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EA4B9-CD6A-46DB-BB25-EA75DD574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932E5-F29B-4D0F-A2B8-B6CF49A24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6B376-D0D5-434D-A1D6-32DE10EF9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02ABF-BC24-4A17-BBDF-52E9B63BA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16AFD-FD10-4954-BC3F-735515488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41AF8-7B1E-4E10-AEE1-0C40D63AF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9E82A-79AB-4057-A1D9-0CB015B46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477F8-6982-435A-9F13-4A19AF0F4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F6E59-61A8-47A3-ACCE-C41D113F5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4D8DD-8E6A-4D62-9BFF-260C24730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1584B-2943-487A-B9DD-FDC85D732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AB28F-1AC4-4E77-A053-8EB76BAE5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640E9-E169-43D2-94BE-327149920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9F6BE-7373-4E06-B286-788354C26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E7A32-9D38-465D-8EE2-596FD0C8C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AAA5B-7158-484D-8FE8-43C2137F8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0C86F-A9F2-4976-B121-4D447D5FE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9F44E-8E77-42CC-8C83-D54173A0A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14BF5-70E9-4F0E-8FA2-75606013F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0E30B-58C0-41B1-A942-8D50837D5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567C9-E7F8-4762-BA3F-26F016DBD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10089-7F05-44D6-8C11-BF1088BE4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2548-B291-4746-941F-C5C6133171D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28E3-7074-4AA3-AE9F-6B93FA024AF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A</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ing sticker dots, select two ‘themes’ you would like to discuss further.  </a:t>
            </a:r>
            <a:endParaRPr b="0" lang="en-US" sz="24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corder and facilitator will be assigned to each group.  </a:t>
            </a:r>
            <a:endParaRPr b="0" lang="en-US" sz="24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ilitators are encouraged to use the conversation starters (BLM L.2B.3) and coaching question stems for the dialogu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lvl="1" marL="743040" indent="-28584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wo 20 minute rotations:  Themed-Discussion Groups</a:t>
            </a:r>
            <a:endParaRPr b="0" lang="en-US" sz="2800" spc="-1" strike="noStrike">
              <a:solidFill>
                <a:srgbClr val="000000"/>
              </a:solidFill>
              <a:latin typeface="Arial"/>
            </a:endParaRPr>
          </a:p>
          <a:p>
            <a:pPr lvl="1" marL="743040" indent="-28584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ey Ques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what ways do you currently align resources with prio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what ways could resources be aligned</a:t>
            </a:r>
            <a:br>
              <a:rPr sz="2400"/>
            </a:br>
            <a:r>
              <a:rPr b="0" lang="en-CA" sz="2400" spc="-1" strike="noStrike">
                <a:solidFill>
                  <a:srgbClr val="000000"/>
                </a:solidFill>
                <a:latin typeface="Arial"/>
              </a:rPr>
              <a:t>with priorities more effectively?</a:t>
            </a:r>
            <a:endParaRPr b="0" lang="en-US" sz="2400" spc="-1" strike="noStrike">
              <a:solidFill>
                <a:srgbClr val="000000"/>
              </a:solidFill>
              <a:latin typeface="Arial"/>
            </a:endParaRPr>
          </a:p>
        </p:txBody>
      </p:sp>
      <p:pic>
        <p:nvPicPr>
          <p:cNvPr id="115" name="Picture 4" descr=""/>
          <p:cNvPicPr/>
          <p:nvPr/>
        </p:nvPicPr>
        <p:blipFill>
          <a:blip r:embed="rId1"/>
          <a:stretch/>
        </p:blipFill>
        <p:spPr>
          <a:xfrm>
            <a:off x="7308720" y="5079960"/>
            <a:ext cx="158436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17"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solidation</a:t>
            </a:r>
            <a:endParaRPr b="0" lang="en-US" sz="2000" spc="-1" strike="noStrike">
              <a:solidFill>
                <a:srgbClr val="000000"/>
              </a:solidFill>
              <a:latin typeface="Arial"/>
            </a:endParaRPr>
          </a:p>
        </p:txBody>
      </p:sp>
      <p:pic>
        <p:nvPicPr>
          <p:cNvPr id="118"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20" name="PlaceHolder 2"/>
          <p:cNvSpPr>
            <a:spLocks noGrp="1"/>
          </p:cNvSpPr>
          <p:nvPr>
            <p:ph/>
          </p:nvPr>
        </p:nvSpPr>
        <p:spPr>
          <a:xfrm>
            <a:off x="456840" y="1904760"/>
            <a:ext cx="8543880" cy="472428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conversation starters did you use?  Why were these effective [or not] during your dialogue?</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conversation starters would you use during your SIP / BIP process?</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does a focus on aligning resources with priorities support the other 4 core leadership capacities?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nabling structures, conditions and processes are required to effectively align resources with pri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llective Self-Assessment</a:t>
            </a:r>
            <a:endParaRPr b="0" lang="en-US" sz="4400" spc="-1" strike="noStrike">
              <a:solidFill>
                <a:srgbClr val="0d469b"/>
              </a:solidFill>
              <a:latin typeface="Arial"/>
            </a:endParaRPr>
          </a:p>
        </p:txBody>
      </p:sp>
      <p:pic>
        <p:nvPicPr>
          <p:cNvPr id="122" name="Picture 5" descr=""/>
          <p:cNvPicPr/>
          <p:nvPr/>
        </p:nvPicPr>
        <p:blipFill>
          <a:blip r:embed="rId1"/>
          <a:stretch/>
        </p:blipFill>
        <p:spPr>
          <a:xfrm>
            <a:off x="1332000" y="1898640"/>
            <a:ext cx="6404040" cy="469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2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 Leadership Frame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re Leadership Capac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 Board Improvement Pla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aching is one way of serving.  It’s a way of passing along the lessons learned from experience.  </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est leaders are teachers.  The best teachers are also the best learner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y know that by investing in developing others they are also developing themselv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gn="ct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ore enabling structures, conditions and processes for aligning resources with prioriti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urther develop facilitation skills by engaging in courageous conversations focused on aligning resources with priorities using conversation starter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435880" cy="105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nds On</a:t>
            </a:r>
            <a:endParaRPr b="0" lang="en-US" sz="20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of ways you currently align resources with prioriti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 one strategy / approach / consideration per sticky no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rganize the strategies / approaches / considerations under ‘common themes’ (e.g. budget, human resourc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9"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on: Discussion Groups</a:t>
            </a:r>
            <a:endParaRPr b="0" lang="en-US" sz="2000" spc="-1" strike="noStrike">
              <a:solidFill>
                <a:srgbClr val="000000"/>
              </a:solidFill>
              <a:latin typeface="Arial"/>
            </a:endParaRPr>
          </a:p>
        </p:txBody>
      </p:sp>
      <p:pic>
        <p:nvPicPr>
          <p:cNvPr id="11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21:38Z</dcterms:modified>
  <cp:revision>144</cp:revision>
  <dc:subject/>
  <dc:title>Slide 1</dc:title>
</cp:coreProperties>
</file>